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A5C-6115-4812-A4B0-8F7702A4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EADF-E508-425F-AE5B-41E6FD1C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B6D3D-045C-4617-9DE0-944201E4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B153F-9172-4A8E-B125-BDA16E08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827FF-F32B-4C4E-A37C-B8056872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1A723-BF41-4B62-AEF3-1FE22057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EFF5D-3392-4A4F-B041-33E45D46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FC810-99E5-4CB1-876C-029EF4CC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5D368-77E4-488C-A3FC-3B27BEAC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52839-FE72-42CC-9AB9-7002C72D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22154-5F67-4A79-A1CF-99077DE2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8D269-C951-4DC8-A1F0-2E25EF85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215-0F66-4DFF-AAC5-68A28103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ADF24-3156-40F7-98CA-F252FDD7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899EB-27BF-495C-AA39-9769C92F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2327C-0388-4FE8-ACAD-EFB826CF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5BFA0-0AEE-46DA-80AC-56280A1D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54FA8-842C-45EE-85D5-45CECB6F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A4DF8-B55B-4667-88B0-9F10226A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3E8DC-9615-488E-8ABB-EB63BFF2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C33C3-B067-468C-918E-B5EC0E3C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9E4A9-3AAC-40CA-A315-7F7B9D6D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6883F-6E4D-4B7E-827A-7148768A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3FB-5688-401A-B75A-9C32DAFC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DC6FC-814D-4BAE-BC74-166FE84C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622A7-91F7-468A-BD84-0D223062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95332-72EE-4403-8D46-AB85E298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A0834-775E-4636-8581-3A2A35C7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54996-16F0-41AF-B239-48DABECC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B813B-CC6F-4ED1-B5B3-FF683BCE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433AE-14BF-47B1-B7F5-F973F6F8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F3007-3DB7-4EF3-8333-2A609213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0A1BD-F916-45C7-BB69-89EA1AE5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89E0D-F26B-434A-BD88-2113961A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EE59-F6AF-4A30-9FFC-62B6519B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1A861-7922-4D61-8B59-A9BD6F1F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30001-AF6A-45DC-80D0-ECB59387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3A3AB-8247-4D57-8397-0A537829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6C384-E668-4D31-A62C-3371D92F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8CEFE-A8F3-406E-A256-1DA8B874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7193F-6B2A-4ACD-90B6-2B9FA7C6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F43CA-D4B9-44F4-9357-8D1413AE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86850-90D4-400E-8CDA-A0F68A0B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F8E1D-B913-4F02-BF68-DB6190E2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49A75-41B3-4743-AD7F-FD9B71C2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D0D2-77EC-4597-872F-EAA5D52D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07927-B5F6-4343-AC7F-A5E412D0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7F0CC-FBFC-4BFC-8797-AFFBE100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DCECF-3CC6-4304-92E8-565AD517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CD1E4-9F3A-495F-A737-A85C1FE8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DC782-0ADF-4184-8C33-EA77185A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D899-CE68-4E1E-8646-FCAC30B5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63D4-EB02-43A8-A0B2-70D5DC0F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59A7-C832-498E-9B77-961C52E9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64A0-EC97-4422-98DD-1C064D18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ABAD-B0FB-42A4-AF42-E475C6D0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DAA1-8BC7-4943-9759-476D627D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E14F-0AFB-44A6-B265-2DBBF9F6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50D9-7BF3-415C-A0F3-6B722260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1FE5-0073-4E99-AE97-0E46C564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D200-4C4F-4937-9DF2-506EC639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2815-6E53-425B-A1BB-7614FDB6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1CC60-87C9-4040-9AB3-E0EF9936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FE1D2-C8AA-4137-ABFE-FE043430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FE61D-557C-49F8-BDB9-FF556F8C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C6022-CBCD-412E-BB0A-9F7F5675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6FC38-09C9-4760-AE95-8883A449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90FA-FD40-442C-BF8D-0D0EB651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4469F-90E0-4C39-A76A-0506620F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DB081-ED6F-447B-8E73-16F7C757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B22CD-6841-4F6E-BC85-80712AC7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1F12C-3549-4A2A-B7A4-D2156AC7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A20B4-A9F7-410F-B798-9A7F5D7A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2EAFB-3C4F-4AE3-9E5C-129BC01F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5F527-5889-4B65-BB61-0558087A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F9AD0-5F14-4DAE-9776-FDD3F547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58522-F045-49E2-8EE4-7DB7D4BD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0DFA1-50FC-454B-A89E-FB0FB0D9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1E9-9280-476A-ADA2-B312C09D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64E69-CE52-4767-8535-88FC6FBC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815D6-3BAE-4F56-8015-7EA16577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7B7CE-8340-4F04-932F-700E2E94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7777A-7E92-41FF-80BC-8AA45C06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6DE0A-F249-474A-9454-006A8A8E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C7872-CB48-4C63-8FCB-2AA9A527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E5A0D-A85B-4370-941B-E959DA8B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61F67-F367-407D-96C5-FB06CDB3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C8150-7DEB-4B6C-BA7B-3FD4EC33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FA79C-292D-4209-ABFA-B81E95E8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BB3-CA60-4549-9AAE-75DFDEF2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5BB1C-A329-4DB0-B62C-8E4CFDD0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0B763-89EC-4E9B-848F-402743D5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0BC74-316F-4593-93A5-5CB0E72D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586F0-0C78-4D19-921D-2BC6E40E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FD0A3-51A9-4E06-86A0-531C31E8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82BE6-ACA4-449D-9202-9BF52AF9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C9235-5413-4377-96D5-7F50E49F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72F9A-36A6-471A-9CBD-2BEA96FF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73AEE-79CA-4E8C-94FA-9F1115F2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D4FD1-161D-4001-BC7E-AFB74B70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ECE-EAA5-4771-919A-F70AD5FB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B714B-6F3C-4083-9F9F-84DB3DC5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11B13-DA9E-4CC5-B7CA-6ED15076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5913C-33AF-4E82-BC02-FC435017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FE25F-F44F-49F3-A4B8-18B6C7B9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504D4-9D61-4F28-8803-0823F3B1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46234-2EFE-4CBA-95A3-B91F7360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49949-3822-4DEC-8DF8-E9027FF1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2C50A-CC27-446F-A834-B7FC7FE7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C461B-DDC4-47DA-89FB-1952F084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4E3E6-A88F-4262-A425-34058BAF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5D0-AE58-47C3-BB61-36C4EFDF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01C8F-3928-4E0C-819D-A32F907F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63384-41C8-4D44-AED2-F2BF0264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833F8-9A75-46BE-B99E-4A160874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05DBB-695B-4B63-88DA-23AA6A05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E6586-B840-4E2D-AC09-DFD64497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0D90A-BA2F-4943-A7A2-5719299F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038B9-0A5F-4B15-8276-F930AB02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9AF12-4C03-4873-A260-AEFFB724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179EC-E49C-4F44-9753-82939E77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C0B51-F035-446F-B06B-DFE63472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9DC-D9E6-4939-8F59-55993057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A408A-4ACB-4628-9CF6-7F44E508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AF17C-C603-4B5E-A278-F850EE5F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67CB5-75E2-4573-9BAF-E8BEDBA7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CF732-582B-41FA-A931-3E6AFB3B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1F05F-51A4-402E-BAEA-DE8A4A5C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FBD55-33E6-4774-941D-18DAC941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B5F21-468C-4F73-8589-9853255C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517CB-E0AC-4CC5-A115-6C4DA7E9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52C61-298E-4C18-B59C-FFF43FA6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FB02B-1F23-4FF5-AD36-6EC3E57D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CD5-BB4E-4939-A318-E0240EDF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95E75-33E0-488D-BF19-A2147DF0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31C8A-B964-4FEB-8572-3A867622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9B2FF-0D85-469B-8341-14A7826C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9C8BF-109E-4BBE-801D-42961525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82332-59E8-43D2-8E98-16F30CC0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E1601-E686-45E5-A714-68214740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0709B-1C54-495B-9DEB-887BB597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4082C-D25E-41FA-B553-4F33951A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5E95D-5BB2-470D-BB3C-F2CF5162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6836F-76B8-4100-9E7F-659F8F9E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54B4-CE69-40A8-9A42-968B0277B92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5D21-E5D0-4836-9C55-9CD45F81EF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9918-9CF8-427D-A01E-ACAD39E43B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2158-D1BB-41BC-83F8-E1E3EAEA9E3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E115-F38B-496F-A0C2-40B8EB33630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B0E4-B043-4C5E-8A53-ED7AB157EB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03D0-E75A-4F70-B9FE-DDCFB45A295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4939-41AA-48D3-8CF7-C4B4529E3C7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6C71-7859-4313-BAAB-EAA1E4ABA0A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7A4C-064D-4FFB-9388-AE31AFABD01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5931-8E59-4F18-8417-A6C49816DB0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3D98-6335-499B-B2D5-AA47FF4F71D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96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V Ježišových šľapaja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ovi stále slúžiť bud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ním pôjd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ňom ten správ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tia smer nájsť môžem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Ježišových šľapaja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ísť chce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re neho verne pracov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jeho pomoc smel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úfať smi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žeme vždy naň sa spolieh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ovi stále slúžiť bud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ním pôjd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ňom ten správ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tia smer nájsť môž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e my o tom hovorí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k hriešny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sa skláňa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ždého, kto príde k nemu, pri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a svoj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dať všetkým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ovi stále slúžiť bud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ním pôjd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ňom ten správ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tia smer nájsť môž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pravovať jemu cestu m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druhý príchod zvestov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to z lásky k blížnym vykon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mohol z nás sa rad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3:42:09Z</dcterms:modified>
  <cp:revision>21</cp:revision>
  <dc:subject/>
  <dc:title>Je veľký náš Pán, on slávy je Kráľ Nech do všetkých strán  spev vrúcnych znie chvál.</dc:title>
</cp:coreProperties>
</file>